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5DFB-D95C-494A-9F41-FED3A8B7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DBD-661F-4E5C-8449-C42F0875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62EA-5295-432C-964D-E225092D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B93-FD3F-4798-BE29-2270058C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E245-6F72-4846-B78F-2F43A41A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10AE-B15E-408E-9E4D-4948BFAE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C493-9CB9-4AEB-879A-80E2F095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062-EE51-440F-80F5-D7144611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34F-D638-4C03-908C-251253CC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CB79-2294-481C-B66B-6D51F879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D1F-4D3D-44DD-BF2C-FB091895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94A-42FC-427D-9C6B-C233A0C5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07A1A-B29E-4A4D-B5BC-4F275B4193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38632-3918-44B9-B91A-68DCA364A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slide24.xml"/><Relationship Id="rId23" Type="http://schemas.openxmlformats.org/officeDocument/2006/relationships/slide" Target=""/><Relationship Id="rId24" Type="http://schemas.openxmlformats.org/officeDocument/2006/relationships/slide" Target="slide26.xml"/><Relationship Id="rId25" Type="http://schemas.openxmlformats.org/officeDocument/2006/relationships/slide" Target=""/><Relationship Id="rId26" Type="http://schemas.openxmlformats.org/officeDocument/2006/relationships/slide" Target="slide28.xml"/><Relationship Id="rId27" Type="http://schemas.openxmlformats.org/officeDocument/2006/relationships/slide" Target=""/><Relationship Id="rId28" Type="http://schemas.openxmlformats.org/officeDocument/2006/relationships/slide" Target="slide30.xml"/><Relationship Id="rId29" Type="http://schemas.openxmlformats.org/officeDocument/2006/relationships/slide" Target=""/><Relationship Id="rId30" Type="http://schemas.openxmlformats.org/officeDocument/2006/relationships/slide" Target="slide32.xml"/><Relationship Id="rId31" Type="http://schemas.openxmlformats.org/officeDocument/2006/relationships/slide" Target=""/><Relationship Id="rId32" Type="http://schemas.openxmlformats.org/officeDocument/2006/relationships/slide" Target="slide34.xml"/><Relationship Id="rId33" Type="http://schemas.openxmlformats.org/officeDocument/2006/relationships/slide" Target=""/><Relationship Id="rId34" Type="http://schemas.openxmlformats.org/officeDocument/2006/relationships/slide" Target="slide36.xml"/><Relationship Id="rId35" Type="http://schemas.openxmlformats.org/officeDocument/2006/relationships/slide" Target=""/><Relationship Id="rId36" Type="http://schemas.openxmlformats.org/officeDocument/2006/relationships/slide" Target="slide38.xml"/><Relationship Id="rId37" Type="http://schemas.openxmlformats.org/officeDocument/2006/relationships/slide" Target=""/><Relationship Id="rId38" Type="http://schemas.openxmlformats.org/officeDocument/2006/relationships/slide" Target="slide40.xml"/><Relationship Id="rId39" Type="http://schemas.openxmlformats.org/officeDocument/2006/relationships/slide" Target=""/><Relationship Id="rId4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2" action="ppaction://hlinksldjump"/>
              </a:rPr>
              <a:t>2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4" action="ppaction://hlinksldjump"/>
              </a:rPr>
              <a:t>3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6" action="ppaction://hlinksldjump"/>
              </a:rPr>
              <a:t>4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8" action="ppaction://hlinksldjump"/>
              </a:rPr>
              <a:t>5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10" action="ppaction://hlinksldjump"/>
              </a:rPr>
              <a:t>1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12" action="ppaction://hlinksldjump"/>
              </a:rPr>
              <a:t>2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14" action="ppaction://hlinksldjump"/>
              </a:rPr>
              <a:t>3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16" action="ppaction://hlinksldjump"/>
              </a:rPr>
              <a:t>4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18" action="ppaction://hlinksldjump"/>
              </a:rPr>
              <a:t>5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20" action="ppaction://hlinksldjump"/>
              </a:rPr>
              <a:t>1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22" action="ppaction://hlinksldjump"/>
              </a:rPr>
              <a:t>200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24" action="ppaction://hlinksldjump"/>
              </a:rPr>
              <a:t>3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26" action="ppaction://hlinksldjump"/>
              </a:rPr>
              <a:t>4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28" action="ppaction://hlinksldjump"/>
              </a:rPr>
              <a:t>5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30" action="ppaction://hlinksldjump"/>
              </a:rPr>
              <a:t>1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32" action="ppaction://hlinksldjump"/>
              </a:rPr>
              <a:t>2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34" action="ppaction://hlinksldjump"/>
              </a:rPr>
              <a:t>3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36" action="ppaction://hlinksldjump"/>
              </a:rPr>
              <a:t>4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115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38" action="ppaction://hlinksldjump"/>
              </a:rPr>
              <a:t>5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116">
            <a:hlinkClick r:id="rId3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Natura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Resourc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3 R’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ob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ob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r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03:00:24Z</dcterms:created>
  <dc:creator>Caroline Roth</dc:creator>
  <dc:description/>
  <dc:language>en-US</dc:language>
  <cp:lastModifiedBy>Caroline Roth</cp:lastModifiedBy>
  <dcterms:modified xsi:type="dcterms:W3CDTF">2011-04-29T03:02:48Z</dcterms:modified>
  <cp:revision>1</cp:revision>
  <dc:subject/>
  <dc:title>Slide 1</dc:title>
</cp:coreProperties>
</file>